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68714"/>
        <c:axId val="13905393"/>
      </c:barChart>
      <c:catAx>
        <c:axId val="5956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5393"/>
        <c:crosses val="autoZero"/>
        <c:auto val="1"/>
        <c:lblAlgn val="ctr"/>
        <c:lblOffset val="100"/>
        <c:noMultiLvlLbl val="0"/>
      </c:catAx>
      <c:valAx>
        <c:axId val="13905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F4D-7CD6-4CC4-B919-EDCFCA1C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269-3876-41AC-B42E-03323560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795-211A-417F-A0AA-9E705E32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CA9-CF63-4F13-97AA-DF97FFDF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66C-E16E-4230-B26A-7845F13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C97-5AC7-4B45-AD15-4D533E8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93F-0896-40D3-BB6D-93955F1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6A7-380B-4715-8C5E-DDE0D75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449-966E-450E-AD5B-09809A7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29E-EE11-4558-BF41-8DAB5AD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4A2-AD6B-40AC-802F-5AB42F4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81A-11D0-4BD6-B6D8-103532B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C3BD4-EED1-4DF0-AAC8-95E56E333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