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47841"/>
        <c:axId val="65261781"/>
      </c:barChart>
      <c:catAx>
        <c:axId val="256478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61781"/>
        <c:crosses val="autoZero"/>
        <c:auto val="1"/>
        <c:lblAlgn val="ctr"/>
        <c:lblOffset val="100"/>
        <c:noMultiLvlLbl val="0"/>
      </c:catAx>
      <c:valAx>
        <c:axId val="652617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478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47A5-3F1D-4CE2-917E-D5A6FA40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D022-8975-49A7-BA3D-086BFDB4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914-3A1C-4D27-BF84-5AE46EF2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98EF-5BA3-424E-BC1D-DC467081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260F-EC4D-458A-AAB1-4B188D06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0FB6-E455-4246-925D-340F02A9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DA46-F2E0-44D2-A4C3-B3DA4B88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966F-E5C2-4EA9-AACE-BC9BB592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F7FC-8DD9-4D85-AD47-DED8E86F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ABCA-C956-4E26-A338-98407E00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78B-A961-42CC-BB61-2E0D98F2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FDB6-A740-48CE-8F94-DA35B571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7F60F-37ED-408C-89D2-F12E3C8481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