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87019"/>
        <c:axId val="93336999"/>
      </c:barChart>
      <c:catAx>
        <c:axId val="14587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6999"/>
        <c:crosses val="autoZero"/>
        <c:auto val="1"/>
        <c:lblAlgn val="ctr"/>
        <c:lblOffset val="100"/>
        <c:noMultiLvlLbl val="0"/>
      </c:catAx>
      <c:valAx>
        <c:axId val="93336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7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FE6-4323-4D65-AD00-86666EDF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AE6-56F8-4867-BF90-5D46A4A9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271-048C-477A-B8E0-885128C9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439-C5C2-4FCF-9A36-792A7C0E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570-D4E0-4684-810F-216DDF6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662-D2B5-4E62-93EE-E00D4E0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6C2-B0F8-4EDC-800B-7DF8BE4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9C1-98CF-4458-80B9-44B43D4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FCC-D9A0-4DAE-B58A-C52C6DB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724-F64E-4AF3-8E64-D3D86C74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7F6-3E93-4370-8550-23B255E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526-2DAF-4AF9-A5D6-A4C58D7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E205E-67D1-414F-B0B0-80BB595C7E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