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26866"/>
        <c:axId val="91278075"/>
      </c:barChart>
      <c:catAx>
        <c:axId val="32268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278075"/>
        <c:crosses val="autoZero"/>
        <c:auto val="1"/>
        <c:lblAlgn val="ctr"/>
        <c:lblOffset val="100"/>
        <c:noMultiLvlLbl val="0"/>
      </c:catAx>
      <c:valAx>
        <c:axId val="912780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268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5B2A-972D-4B4D-95CD-D4FE06C07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DB57-74B2-4C72-98F2-23052235A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5CDD-F022-4F65-80AE-3FE8BAE25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4A54-1EF5-498F-934C-7561E157C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1CB3-2EAE-42FA-8DC5-11AAD66AC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0F7C-2108-40C1-A5A3-EDB153B48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538D-AE0E-4E78-BDFF-4EE60EFF5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1515-688B-49CB-A012-86DD9A456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3B2C-AC0A-4177-8D55-4E6030A1E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4EC5-F494-49BF-B952-A84C59C3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8B62-BC10-4E3A-838C-A3ECEA7D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E5C4-16C0-48A1-93B0-A4F9045C8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26D2AE-FB5F-4241-9820-1ECC9C9D88E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